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E317B-D156-4C18-A863-40D392D9B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87BA0-07B0-48A2-B583-D091B4020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5ACAC-802B-4AFA-96CB-CC997ECC8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1CD3B-86D7-497E-8706-7B860D00B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4D5AE-C8E2-4746-8796-C420A1C30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289A8-75FB-47AE-B754-80BB1A0A7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2AE10-2BA4-48A2-8B52-DC68B035F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82DDA-737E-4162-AD05-AB4105C9B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5228B-7AFC-4862-82A6-7DFF5B61F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697B0-B09E-4071-92DD-91E4FED50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E1624-640B-4C31-932E-E9925342B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9F37F-7D2A-41F5-9193-3823559C6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76A92-0EC2-4D21-A1CD-26FE28559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BF395-BD96-49C6-B28B-8F4D8D5A4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DD179-A7F4-43FE-B359-8FBFCD09F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25BDF-E624-40C5-9AD0-BB00AB2CF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09B63-38E1-4D70-9627-779502599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9E9FF-D85C-4E51-BF7B-8B3DF50C1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F4569-48F0-4F65-924A-F3C167A64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6881-F41A-4A9F-A22E-0D7F2BDC9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C0E34-85A2-450E-933A-ABB4E4F7A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D11B2-CB93-42FD-B2E1-2518167BB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6D147-079B-4D45-B563-D7B634F21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E5782-1748-4042-BB13-BBF0BBAEC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98E0-D8EC-4EF0-8263-ADB1CB4714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FE26-E20D-4DD5-8D64-BCD6F76416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Student Objectives</a:t>
            </a:r>
            <a:br>
              <a:rPr sz="5400"/>
            </a:br>
            <a:r>
              <a:rPr b="1" lang="en-US" sz="1400" spc="-1" strike="noStrike">
                <a:solidFill>
                  <a:srgbClr val="ffffb7"/>
                </a:solidFill>
                <a:latin typeface="Arial Black"/>
              </a:rPr>
              <a:t>pp. 64 - 65</a:t>
            </a:r>
            <a:endParaRPr b="1" lang="en-US" sz="1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ctice analyzing the setting, character, and plot of a short story</a:t>
            </a:r>
            <a:endParaRPr b="0" lang="en-US" sz="2400" spc="-1" strike="noStrike">
              <a:solidFill>
                <a:srgbClr val="ffffff"/>
              </a:solidFill>
              <a:latin typeface="Arial"/>
            </a:endParaRPr>
          </a:p>
          <a:p>
            <a:pPr>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ext marking to identify story elements</a:t>
            </a:r>
            <a:endParaRPr b="0" lang="en-US" sz="2400" spc="-1" strike="noStrike">
              <a:solidFill>
                <a:srgbClr val="ffffff"/>
              </a:solidFill>
              <a:latin typeface="Arial"/>
            </a:endParaRPr>
          </a:p>
          <a:p>
            <a:pPr>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trategies for identifying sequence of ev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 Describe Mr. Hyde, using details about his appearance and behavio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 Hyde is young, and not very tall.  He has a look about him that scares people.  He can become violent sudden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ot</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 What event makes Utterson’s nightmare come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ightmares come true when Hyde viciously attacks an innocent older 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quence of Events</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these events 1 – 4 to put them in time orde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 The maid’s story spread through Lond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 Hyde brutally beat the older man with his can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 An older man stopped to speak to a younger man on the stree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 The maid recognized the younger man was Edward Hyd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trategic Reading</a:t>
            </a:r>
            <a:br>
              <a:rPr sz="4000"/>
            </a:br>
            <a:r>
              <a:rPr b="1" lang="en-US" sz="4000" spc="-1" strike="noStrike">
                <a:solidFill>
                  <a:srgbClr val="ffffb7"/>
                </a:solidFill>
                <a:latin typeface="Arial Black"/>
              </a:rPr>
              <a:t>Story Elements</a:t>
            </a:r>
            <a:br>
              <a:rPr sz="4000"/>
            </a:br>
            <a:r>
              <a:rPr b="1" lang="en-US" sz="4000" spc="-1" strike="noStrike">
                <a:solidFill>
                  <a:srgbClr val="ffffb7"/>
                </a:solidFill>
                <a:latin typeface="Arial Black"/>
              </a:rPr>
              <a:t>Guided Practice, pp. 64-65</a:t>
            </a:r>
            <a:endParaRPr b="1" lang="en-US" sz="40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what seems like a minor detail related to the setting of a story can help you understand how or why something happe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escribe Hyde’s Appearance</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e is smaller and younger than the other man; he carries a ca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omes consumed with anger; he strikes the older man in a violent rag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e is cruel and frighten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ctivate Prior Knowledge</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terson has met Hyde and is becoming increasingly suspicious about Hyde’s connection to his friend Dr. Jekyl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e conversation between Dr. Jekyll and Utterson reveal about Jekyll’s relationship with Mr. Hy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hared Reading &amp; </a:t>
            </a:r>
            <a:br>
              <a:rPr sz="4000"/>
            </a:br>
            <a:r>
              <a:rPr b="1" lang="en-US" sz="4000" spc="-1" strike="noStrike">
                <a:solidFill>
                  <a:srgbClr val="ffffb7"/>
                </a:solidFill>
                <a:latin typeface="Arial Black"/>
              </a:rPr>
              <a:t>Target Words</a:t>
            </a:r>
            <a:br>
              <a:rPr sz="4000"/>
            </a:br>
            <a:r>
              <a:rPr b="1" lang="en-US" sz="1000" spc="-1" strike="noStrike">
                <a:solidFill>
                  <a:srgbClr val="ffffb7"/>
                </a:solidFill>
                <a:latin typeface="Arial Black"/>
              </a:rPr>
              <a:t>Sam Keyword: React and Write F11, We</a:t>
            </a:r>
            <a:endParaRPr b="1" lang="en-US" sz="10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repare to explain why Utterson wants to confront Dr. Jekyll.</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olution could you </a:t>
            </a:r>
            <a:r>
              <a:rPr b="0" i="1" lang="en-US" sz="3200" spc="-1" strike="noStrike">
                <a:solidFill>
                  <a:srgbClr val="ffffff"/>
                </a:solidFill>
                <a:latin typeface="Arial"/>
              </a:rPr>
              <a:t>devise</a:t>
            </a:r>
            <a:r>
              <a:rPr b="0" lang="en-US" sz="3200" spc="-1" strike="noStrike">
                <a:solidFill>
                  <a:srgbClr val="ffffff"/>
                </a:solidFill>
                <a:latin typeface="Arial"/>
              </a:rPr>
              <a:t> to keep your feet dry in a rainstorm?</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ight Utterson </a:t>
            </a:r>
            <a:r>
              <a:rPr b="0" i="1" lang="en-US" sz="3200" spc="-1" strike="noStrike">
                <a:solidFill>
                  <a:srgbClr val="ffffff"/>
                </a:solidFill>
                <a:latin typeface="Arial"/>
              </a:rPr>
              <a:t>devise</a:t>
            </a:r>
            <a:r>
              <a:rPr b="0" lang="en-US" sz="3200" spc="-1" strike="noStrike">
                <a:solidFill>
                  <a:srgbClr val="ffffff"/>
                </a:solidFill>
                <a:latin typeface="Arial"/>
              </a:rPr>
              <a:t> to help Dr. Jekyll?</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the maid in </a:t>
            </a:r>
            <a:r>
              <a:rPr b="0" i="1" lang="en-US" sz="3200" spc="-1" strike="noStrike">
                <a:solidFill>
                  <a:srgbClr val="ffffff"/>
                </a:solidFill>
                <a:latin typeface="Arial"/>
              </a:rPr>
              <a:t>awe</a:t>
            </a:r>
            <a:r>
              <a:rPr b="0" lang="en-US" sz="3200" spc="-1" strike="noStrike">
                <a:solidFill>
                  <a:srgbClr val="ffffff"/>
                </a:solidFill>
                <a:latin typeface="Arial"/>
              </a:rPr>
              <a:t> of what she sees on the foggy October n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swers to Questions</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terson wants to confront Dr. Jekyll about his connection to Mr. Hyde and about why Jekyll’s will leaves everything to Hyde.</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ise de-vise (verb) – to plan or invent a way to do somethi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 I have no boots, so I need to devise a way to keep my feet d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act</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friend is doing something you believe is wrong, do you have a responsibility to talk to the friend about i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y or why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trategy Note</a:t>
            </a:r>
            <a:br>
              <a:rPr sz="4400"/>
            </a:br>
            <a:r>
              <a:rPr b="1" lang="en-US" sz="4400" spc="-1" strike="noStrike">
                <a:solidFill>
                  <a:srgbClr val="ffffb7"/>
                </a:solidFill>
                <a:latin typeface="Arial Black"/>
              </a:rPr>
              <a:t>Make Inferences</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Jekyll seems friendly in the beginning but then begins to act very strange when Utterson mentions Hyde.  Dr. Jekyll must be hiding something from his frie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sk Questions</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kyll says he can get rid of Hyde whenever he wants, but at the same time cautions Utterson to follow the instructions in his will, should something happen to him.  Why does Dr. Jekyll seem to contradict him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sory Detail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ve noticed that the writer describes the action using details that appeal to my senses.  Describing the setting as a foggy October night helps me see and feel the damp evening.  I can almost hear what is happening when I read the hideous sound of bone cracking beneath wo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tting</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It is a foggy October night.  How is the maid able to see that the attacker is Edward Hy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21:57:36Z</dcterms:created>
  <dc:creator>Barbara Vogt</dc:creator>
  <dc:description/>
  <dc:language>en-US</dc:language>
  <cp:lastModifiedBy>Barbara Vogt</cp:lastModifiedBy>
  <dcterms:modified xsi:type="dcterms:W3CDTF">2012-02-04T19:46:17Z</dcterms:modified>
  <cp:revision>4</cp:revision>
  <dc:subject/>
  <dc:title>Student Objectives pp. 64 - 65</dc:title>
</cp:coreProperties>
</file>